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18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487BF1-40BC-43A8-BA1E-C77687A0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A5022A-60CD-4D43-98BD-624556CC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92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3A05AD-9348-4775-96AA-3E9C2B34D5E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B119FF-D53A-4FEB-8213-94160ACDBF9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3BD758-71C1-4477-B01B-A210AD954A8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91CC98-AFF3-44C0-AB35-4A47A127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1D1-7E7E-43DF-926F-26C156DF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8B6-CE13-4F83-97C0-FDD090D3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A52-0B3D-4F9C-9758-9222E95A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E89-ADE4-473A-9849-AAFDFCDC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42E-6442-4E38-A115-F9D318A4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16CF-CF33-4DFE-AFFA-3AE9CC90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F8D-6B8E-42B5-B1E8-A7EEF58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A2B9-7A4D-4F47-8F2C-C8145E29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17B1-1BD8-4F7E-B53F-6C910AC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CDF5-4C31-4D2A-8BD2-7678225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C525-1AAE-4432-B037-CF693B5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F443-A9E3-4DE4-9134-C16514D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2EC-8250-42A8-ADC2-D21EF55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1798-D189-49EF-8ADB-15E44AF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E9D2-A6B1-49A8-AD43-4633261F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194-75E7-48CE-9BF9-608EA78B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3EEF-98AC-481E-9C0D-07EF847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6B0-78C0-4273-9078-217F6577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15D5-331E-49CC-B8F6-F1695AE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8524-4DAA-4DB6-9641-B2752148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2E01-7ED7-4F03-884F-FFFD6E8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B549-7921-44D3-9AEB-6AF7D61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2E80-B07C-410E-BDE2-0F9F1F4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EE72-2C7D-49FC-8EB9-8DBB764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3BD2-99F2-4026-8B21-6BD170A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72F2-1E62-4983-BB2D-3F96450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0145-4E95-44B7-BB0A-D6FFE677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8194-E7BF-4049-89A6-814C2C3B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B38-3D73-403B-B413-26119AB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96E5-24B6-4C35-8D7A-7CE4543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BC40-BB28-41D5-902F-78821D26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4E039-78DB-410C-AACF-8DD265C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5F57-84E6-4DC8-9B87-D7601947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3199-0E5E-4075-9245-58C7268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31E7-9F98-4898-B2DB-89B1428A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F5E81-B01F-40FD-8797-8668D64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E791-2FFB-4341-A3B8-284459E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EFD3-1BFA-4537-9BFC-4848B2A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F9A6-2E67-424B-A30D-6D01D43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EF9-DFC1-4A33-84F2-ABC75B70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0529-1BFF-4437-BAF6-EDC1199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B911-C5F7-4B9A-95F1-ECF99D3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520B-3EF3-4711-B3DA-4B0A5FCD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82C-15DA-4D5B-A8B2-7F215E67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439F-76B9-4B6B-8EB5-5118BC4B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47A6-9AC1-4902-8B07-1E681732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FEFD-7BAF-4870-8FEC-3198900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82DD-EE87-414C-A6E1-620F6F3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16AD7-3931-47A8-9E26-DA227E1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274-4C1A-4B63-96A3-D298F6D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5A503-63CD-4232-9B16-7D2965A6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B193-079D-4771-96CB-C0051F9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EBEE-5D05-4C51-986A-3209695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6605-4F0F-433E-94BC-7C335A0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68E1-9853-422E-8011-D99A88A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6739-4BEC-4754-BD90-ADD2545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EA97-F21A-45CC-AE66-A646C9D1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CD9-6033-43F0-A547-145C235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260-8AF5-451E-9BF6-5FEA075C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A73-C996-41B4-A1D2-BF2C77B2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DF2B-D352-4534-A262-B9F73F5365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59B4-546E-4918-9272-AD5F3C3D742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452-26A0-48D7-A878-F40D92B56C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9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1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14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619-0E6E-49EB-9552-7438905EC5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AED-AECE-4AB3-BCEC-215A2A2D4F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8152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3"/>
          <p:cNvSpPr/>
          <p:nvPr/>
        </p:nvSpPr>
        <p:spPr>
          <a:xfrm>
            <a:off x="57240" y="1380960"/>
            <a:ext cx="534348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IPA funding for floods recovery in Bosnia and Herzegovina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nor Coordination 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rajevo, 16 Octo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2"/>
          <a:stretch/>
        </p:blipFill>
        <p:spPr>
          <a:xfrm>
            <a:off x="5556240" y="6100920"/>
            <a:ext cx="987480" cy="66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457200" y="2133720"/>
            <a:ext cx="82296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Donors Conference of 16 July: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 85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M € pledged 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ssistance provided in two pack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EU Flood Recovery Programme (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2.24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on-going since 15 August 2014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400"/>
              </a:spcBef>
              <a:buClr>
                <a:srgbClr val="10016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IPA 2014 Special Measures (appr.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43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): plan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Additional funding: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20 M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€</a:t>
            </a:r>
            <a:r>
              <a:rPr b="1" i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regional programme for river management jointly with Ser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Based on findings of the </a:t>
            </a: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covery Needs Assessment (RNA)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for Bosnia and Herzegov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2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U support to post-floods recover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3" descr=""/>
          <p:cNvPicPr/>
          <p:nvPr/>
        </p:nvPicPr>
        <p:blipFill>
          <a:blip r:embed="rId1"/>
          <a:stretch/>
        </p:blipFill>
        <p:spPr>
          <a:xfrm>
            <a:off x="165240" y="2114640"/>
            <a:ext cx="8753400" cy="5207040"/>
          </a:xfrm>
          <a:prstGeom prst="rect">
            <a:avLst/>
          </a:prstGeom>
          <a:ln w="0">
            <a:noFill/>
          </a:ln>
        </p:spPr>
      </p:pic>
      <p:grpSp>
        <p:nvGrpSpPr>
          <p:cNvPr id="775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76" name="Rectangle 2" descr=""/>
            <p:cNvPicPr/>
            <p:nvPr/>
          </p:nvPicPr>
          <p:blipFill>
            <a:blip r:embed="rId2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1. EU Flood Recovery Program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6" descr=""/>
          <p:cNvPicPr/>
          <p:nvPr/>
        </p:nvPicPr>
        <p:blipFill>
          <a:blip r:embed="rId3"/>
          <a:stretch/>
        </p:blipFill>
        <p:spPr>
          <a:xfrm>
            <a:off x="196920" y="3506760"/>
            <a:ext cx="2598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196920" y="2133720"/>
            <a:ext cx="86868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Ready for implementation in 2015 (appr. 63 million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  <a:ea typeface="Arial"/>
              </a:rPr>
              <a:t> IPA funding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3.5 M € from IPA National Programme 2014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27.5 M € from the IPA Regional Programm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1,75 M € from IPA National saving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20 M € from IPA Regional for joint regional projects for flood protection and river management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Prioritie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trengthening civil protection capacities for emergency 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upporting civil society efforts for social and economic recovery in flood 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Flood protection and river management urgent measures in BiH and regional measures jointly with Serb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SMEs and local development in flood-affected area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Additional housing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10016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Verdana"/>
                <a:ea typeface="Arial"/>
              </a:rPr>
              <a:t>Rehabilitation of judicial infrastructu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Rectangle 2"/>
          <p:cNvGrpSpPr/>
          <p:nvPr/>
        </p:nvGrpSpPr>
        <p:grpSpPr>
          <a:xfrm>
            <a:off x="334800" y="1316160"/>
            <a:ext cx="8412480" cy="903240"/>
            <a:chOff x="334800" y="1316160"/>
            <a:chExt cx="8412480" cy="903240"/>
          </a:xfrm>
        </p:grpSpPr>
        <p:pic>
          <p:nvPicPr>
            <p:cNvPr id="781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316160"/>
              <a:ext cx="84124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3840" y="1405080"/>
              <a:ext cx="829296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2. IPA 2014 Special Measure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76244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13"/>
          <p:cNvSpPr/>
          <p:nvPr/>
        </p:nvSpPr>
        <p:spPr>
          <a:xfrm>
            <a:off x="28440" y="1638360"/>
            <a:ext cx="51627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25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lvin Asi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d of Co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 Delegation to Bosnia and Herzegovin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3943440" y="5808600"/>
            <a:ext cx="5200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Delegation of the European Union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                                                            </a:t>
            </a: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to Bosnia and Herzegovi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7" descr=""/>
          <p:cNvPicPr/>
          <p:nvPr/>
        </p:nvPicPr>
        <p:blipFill>
          <a:blip r:embed="rId2"/>
          <a:stretch/>
        </p:blipFill>
        <p:spPr>
          <a:xfrm>
            <a:off x="5556240" y="6067440"/>
            <a:ext cx="987480" cy="6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4-10-15T11:27:05Z</dcterms:modified>
  <cp:revision>899</cp:revision>
  <dc:subject/>
  <dc:title>Folie 1</dc:title>
</cp:coreProperties>
</file>